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19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.jpeg" ContentType="image/jpeg"/>
  <Override PartName="/ppt/media/image4.wmf" ContentType="image/x-wmf"/>
  <Override PartName="/ppt/media/image25.jpeg" ContentType="image/jpeg"/>
  <Override PartName="/ppt/media/image2.png" ContentType="image/png"/>
  <Override PartName="/ppt/media/image32.png" ContentType="image/png"/>
  <Override PartName="/ppt/media/image10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13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4.jpeg" ContentType="image/jpeg"/>
  <Override PartName="/ppt/media/image40.wmf" ContentType="image/x-wmf"/>
  <Override PartName="/ppt/media/image35.png" ContentType="image/png"/>
  <Override PartName="/ppt/media/image5.jpeg" ContentType="image/jpeg"/>
  <Override PartName="/ppt/media/image36.jpeg" ContentType="image/jpeg"/>
  <Override PartName="/ppt/media/image11.jpeg" ContentType="image/jpeg"/>
  <Override PartName="/ppt/media/image31.jpeg" ContentType="image/jpeg"/>
  <Override PartName="/ppt/media/image41.png" ContentType="image/png"/>
  <Override PartName="/ppt/media/image43.png" ContentType="image/png"/>
  <Override PartName="/ppt/media/image44.wmf" ContentType="image/x-wmf"/>
  <Override PartName="/ppt/media/image46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26.jpeg" ContentType="image/jpeg"/>
  <Override PartName="/ppt/media/image4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A0B-50BA-48DB-B998-144ED2D9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F661-21F0-4C28-AAB6-B809662D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438-364C-494D-A438-F1F50869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194-7419-4165-8CF0-D78ADC12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4DF-CD21-4DAD-84D7-7B894C0E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A9C9-374F-4E0C-B80C-31771583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A26-7CD8-4B01-A0E0-F59E55EF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1C0-20A0-450E-8FB3-6FBAE013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485-E1F3-4291-A61F-96426CDB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C04-934B-402D-86DF-9CF653A7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4B39-34BC-4DF8-94DF-13357DF4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4E1-E283-4E10-9A4F-A5EA3426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5B87-E45D-4584-A8FF-61F5692DE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wmf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wmf"/><Relationship Id="rId6" Type="http://schemas.openxmlformats.org/officeDocument/2006/relationships/image" Target="../media/image45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228600" y="-2666880"/>
            <a:ext cx="16306920" cy="1013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3880" y="-8424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1600200"/>
            <a:ext cx="7620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Forte"/>
              </a:rPr>
              <a:t>La Casa de Suenos</a:t>
            </a:r>
            <a:endParaRPr b="1" i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057400" y="32004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124080" y="320040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267080" y="320040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7391520" y="0"/>
            <a:ext cx="1296720" cy="1298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270920" y="4876920"/>
            <a:ext cx="1873080" cy="198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0" y="5237280"/>
            <a:ext cx="2438280" cy="1620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52280" y="-152280"/>
            <a:ext cx="20574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racia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ios Ami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3581280" cy="1603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010280" y="152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8600" y="4876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162920" y="4876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2286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523880" y="3505320"/>
            <a:ext cx="762120" cy="660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6629400" y="3657600"/>
            <a:ext cx="68580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380880" y="289548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a800a8"/>
                  </a:solidFill>
                  <a:miter/>
                </a:ln>
                <a:solidFill>
                  <a:srgbClr val="60006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Blackadder ITC"/>
              </a:rPr>
              <a:t>Michaella Simonelli</a:t>
            </a:r>
            <a:endParaRPr b="1" i="1" lang="en-US" sz="6600" spc="1" strike="noStrike">
              <a:ln w="9360">
                <a:solidFill>
                  <a:srgbClr val="a800a8"/>
                </a:solidFill>
                <a:miter/>
              </a:ln>
              <a:solidFill>
                <a:srgbClr val="60006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Blackadder ITC"/>
              <a:ea typeface="Blackadder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80880" y="-379440"/>
            <a:ext cx="10896480" cy="8161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28600" y="914400"/>
            <a:ext cx="8763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i casa esta localizada en Venice,Italy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666880" y="3657600"/>
            <a:ext cx="2667240" cy="1771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648160" cy="1724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04920" y="439092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629400" y="4343400"/>
            <a:ext cx="1933560" cy="2371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380880" y="1600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800280"/>
            <a:ext cx="10667880" cy="8001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295280" y="304920"/>
            <a:ext cx="5867640" cy="14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33cc33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ristina"/>
              </a:rPr>
              <a:t>Es mi casa</a:t>
            </a:r>
            <a:endParaRPr b="0" lang="en-US" sz="7200" spc="1" strike="noStrike">
              <a:ln w="19080">
                <a:solidFill>
                  <a:srgbClr val="33cc33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ristina"/>
              <a:ea typeface="Pristi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38080" y="2146320"/>
            <a:ext cx="6629400" cy="4300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6324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i casa es muy grande y tiene vidrio ventana en tordes par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533520" y="-882720"/>
            <a:ext cx="10287000" cy="8164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371600" y="-152280"/>
            <a:ext cx="5880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2a0d95"/>
                  </a:solidFill>
                  <a:miter/>
                </a:ln>
                <a:solidFill>
                  <a:srgbClr val="2a0d95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lackadder ITC"/>
              </a:rPr>
              <a:t>Es mi cocina</a:t>
            </a:r>
            <a:endParaRPr b="0" lang="en-US" sz="6600" spc="1" strike="noStrike">
              <a:ln w="12600">
                <a:solidFill>
                  <a:srgbClr val="2a0d95"/>
                </a:solidFill>
                <a:miter/>
              </a:ln>
              <a:solidFill>
                <a:srgbClr val="2a0d95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lackadder ITC"/>
              <a:ea typeface="Blackadder ITC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0" y="4038480"/>
            <a:ext cx="4419720" cy="3240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85800" y="2006640"/>
            <a:ext cx="1905120" cy="1622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66880" y="2887560"/>
            <a:ext cx="1143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 hor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667560" y="1447920"/>
            <a:ext cx="2476440" cy="1847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952880" y="2354400"/>
            <a:ext cx="1676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i fregader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6404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Mi cocina es impresionate. Yo amour para cocina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685800" y="-1981080"/>
            <a:ext cx="11353680" cy="11202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590920" y="762120"/>
            <a:ext cx="4300560" cy="113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d5d000"/>
                  </a:solidFill>
                  <a:miter/>
                </a:ln>
                <a:solidFill>
                  <a:srgbClr val="d5d000"/>
                </a:solidFill>
                <a:latin typeface="Bodoni MT Condensed"/>
              </a:rPr>
              <a:t>Es mi bano</a:t>
            </a:r>
            <a:endParaRPr b="1" lang="en-US" sz="6600" spc="1" strike="noStrike">
              <a:ln w="9360">
                <a:solidFill>
                  <a:srgbClr val="d5d000"/>
                </a:solidFill>
                <a:miter/>
              </a:ln>
              <a:solidFill>
                <a:srgbClr val="d5d000"/>
              </a:solidFill>
              <a:latin typeface="Bodoni MT Condensed"/>
              <a:ea typeface="Bodoni MT Condensed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86000" y="3124080"/>
            <a:ext cx="4038480" cy="2781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43200" y="603576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s muy elegante y antig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58000" y="1600200"/>
            <a:ext cx="1857240" cy="1981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9012"/>
                </a:solidFill>
                <a:latin typeface="Arial"/>
              </a:rPr>
              <a:t>Ba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0" y="1523880"/>
            <a:ext cx="2514600" cy="1408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" y="28954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f7c03"/>
                </a:solidFill>
                <a:latin typeface="Arial"/>
              </a:rPr>
              <a:t>Ja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609480" y="-3809880"/>
            <a:ext cx="11277360" cy="11277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838080" y="0"/>
            <a:ext cx="780588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Showcard Gothic"/>
              </a:rPr>
              <a:t>Mi dormitori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Showcard Gothic"/>
              <a:ea typeface="Showcard Gothic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1943280" cy="2133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743200" y="3657600"/>
            <a:ext cx="2514600" cy="3048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3809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Ma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32767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C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553080" y="1676520"/>
            <a:ext cx="2111400" cy="2819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400800" y="4640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00e2"/>
                </a:solidFill>
                <a:latin typeface="Arial"/>
              </a:rPr>
              <a:t>Estante de lib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371600"/>
            <a:ext cx="350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0e96"/>
                </a:solidFill>
                <a:latin typeface="Arial"/>
              </a:rPr>
              <a:t>Mi dormitorio es muy grande y moderno. Es donde yo lee bueno libros y escribe mi histo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447920" y="-1052640"/>
            <a:ext cx="12420720" cy="8266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762120" y="228600"/>
            <a:ext cx="800100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99ff"/>
                  </a:solidFill>
                  <a:miter/>
                </a:ln>
                <a:solidFill>
                  <a:srgbClr val="0099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urlz MT"/>
              </a:rPr>
              <a:t>Mi hermana's dormitorio</a:t>
            </a:r>
            <a:endParaRPr b="1" lang="en-US" sz="5400" spc="1" strike="noStrike">
              <a:ln w="12600">
                <a:solidFill>
                  <a:srgbClr val="0099ff"/>
                </a:solidFill>
                <a:miter/>
              </a:ln>
              <a:solidFill>
                <a:srgbClr val="0099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352680" y="1447920"/>
            <a:ext cx="2819520" cy="2287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2498760" cy="2971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3809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S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1148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lmoh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372600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3657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c911"/>
                </a:solidFill>
                <a:latin typeface="Arial"/>
              </a:rPr>
              <a:t>C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8006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e6"/>
                </a:solidFill>
                <a:latin typeface="Arial"/>
              </a:rPr>
              <a:t>Mi hermana’s dormitorio es donde ella hace tarea y donde ella ir dibuj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10363320" cy="6896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2666880" y="304920"/>
            <a:ext cx="359100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9080">
                  <a:solidFill>
                    <a:srgbClr val="a20269"/>
                  </a:solidFill>
                  <a:miter/>
                </a:ln>
                <a:solidFill>
                  <a:srgbClr val="6c0e9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Roman"/>
              </a:rPr>
              <a:t>Mi Sala</a:t>
            </a:r>
            <a:endParaRPr b="1" lang="en-US" sz="6600" spc="1" strike="noStrike">
              <a:ln w="19080">
                <a:solidFill>
                  <a:srgbClr val="a20269"/>
                </a:solidFill>
                <a:miter/>
              </a:ln>
              <a:solidFill>
                <a:srgbClr val="6c0e9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Roman"/>
              <a:ea typeface="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00400" y="3908520"/>
            <a:ext cx="2895480" cy="2044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33520" y="3581280"/>
            <a:ext cx="2030400" cy="2362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477120" y="3886200"/>
            <a:ext cx="2666880" cy="1996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629400" y="601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1604"/>
                </a:solidFill>
                <a:latin typeface="Arial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608796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021"/>
                </a:solidFill>
                <a:latin typeface="Arial"/>
              </a:rPr>
              <a:t>So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608796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7b60a"/>
                </a:solidFill>
                <a:latin typeface="Arial"/>
              </a:rPr>
              <a:t>Lamp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20494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efff"/>
                </a:solidFill>
                <a:latin typeface="Arial"/>
              </a:rPr>
              <a:t>En mi sala mi hermana y yo juego damas y mirar television. Es lujoso y grande. Es nuevo y ordi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10210680" cy="6881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905120" y="0"/>
            <a:ext cx="550548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1400"/>
                </a:solidFill>
                <a:latin typeface="Goudy Old Style"/>
              </a:rPr>
              <a:t>Mi Comedo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1400"/>
              </a:solidFill>
              <a:latin typeface="Goudy Old Style"/>
              <a:ea typeface="Goudy Old Style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4232160"/>
            <a:ext cx="35053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010280" y="4562640"/>
            <a:ext cx="2295720" cy="2295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657600" y="1676520"/>
            <a:ext cx="1981080" cy="2514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733920" y="4038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Arial"/>
              </a:rPr>
              <a:t>F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41148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l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5715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1ff"/>
                </a:solidFill>
                <a:latin typeface="Arial"/>
              </a:rPr>
              <a:t>M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201760"/>
            <a:ext cx="312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ea00"/>
                </a:solidFill>
                <a:latin typeface="Arial"/>
              </a:rPr>
              <a:t>Mi comedor tiene Mesa,placa, y bonita flores. Mi comedor es muy com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45:40Z</dcterms:created>
  <dc:creator>simonellimic</dc:creator>
  <dc:description/>
  <dc:language>en-US</dc:language>
  <cp:lastModifiedBy>simonellimic</cp:lastModifiedBy>
  <dcterms:modified xsi:type="dcterms:W3CDTF">2012-05-22T17:18:00Z</dcterms:modified>
  <cp:revision>6</cp:revision>
  <dc:subject/>
  <dc:title>Slide 1</dc:title>
</cp:coreProperties>
</file>